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83E5-4FF2-4E29-A4F5-E48F31438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503B-9E24-4726-8E6F-F1E21114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39C-C327-40F0-B578-6F6B9D2F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77C-32F3-4AB4-A8FB-DC77CEEB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499-58F1-4E6B-9F6C-14E6147B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A76-796C-440D-ABA3-53BF746C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15FF-B92F-4F09-B49D-8A94FEE5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D87-544D-4440-80F0-952BDE16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A2D-115D-49C3-B0A4-220CC4BC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12F-FDCF-40AA-B74F-789FF8F8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CA7-6699-47A2-8BDA-5E274CBF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6B4-796D-4553-BAD9-2731A9C0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D17-FE39-4ABB-9D42-3BB96676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DD1-C88F-44A8-9B7E-A375F0F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A2A3-DB3D-4795-8896-CF7ADA1F1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nica Tenec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. Me llamo Monica y tengo 14 años. Tengo dos hermanos y una hermana y vivemos en astoria, Queens. Yo soy Alegre, simpatica, linda  inteligente. Me gusta diviterme much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9"/>
          <p:cNvSpPr/>
          <p:nvPr/>
        </p:nvSpPr>
        <p:spPr>
          <a:xfrm>
            <a:off x="152280" y="685800"/>
            <a:ext cx="155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4"/>
          <p:cNvSpPr/>
          <p:nvPr/>
        </p:nvSpPr>
        <p:spPr>
          <a:xfrm>
            <a:off x="228600" y="1066680"/>
            <a:ext cx="132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6" descr="20204_393328290743197_1698626473_n.jpg"/>
          <p:cNvPicPr/>
          <p:nvPr/>
        </p:nvPicPr>
        <p:blipFill>
          <a:blip r:embed="rId12"/>
          <a:stretch/>
        </p:blipFill>
        <p:spPr>
          <a:xfrm>
            <a:off x="152280" y="914400"/>
            <a:ext cx="1625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00:37Z</dcterms:created>
  <dc:creator>FriscoISD</dc:creator>
  <dc:description/>
  <dc:language>en-US</dc:language>
  <cp:lastModifiedBy>NYCDOE</cp:lastModifiedBy>
  <dcterms:modified xsi:type="dcterms:W3CDTF">2012-12-03T14:14:53Z</dcterms:modified>
  <cp:revision>100</cp:revision>
  <dc:subject/>
  <dc:title>Profile</dc:title>
</cp:coreProperties>
</file>